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0EED-10BC-49D1-B510-706E12F6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39B3-240B-4D87-BE61-FC7029E6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0FD0-0234-44A9-B7CD-479C1414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D60F-27BF-4F83-B043-1C68D9F2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6786-7D61-4315-8AFA-CCB5FD16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95EE-D416-4F0A-B3EC-A618B3F9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62DF-77DE-43D2-AB64-19AF607B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EC55-2917-4AFB-B2BF-DD699994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8FEA-1739-46F0-AF44-608DF566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3A29-A8CD-4BA2-A963-B767EF78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2709-EB95-40B3-9A4D-F644466A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8DAF-3A38-4860-A58D-AF172BD9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15AD-FDD4-4D10-9C2A-934EE2B7F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Loss Reserve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Upgrades - A Pervasive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7053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debunk a critical loss reserving myth involving loss reserve upgrades that is pervasive in the insurance industry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Visit the abovementioned URL for a simple arithmetic proof of the above mentioned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Reading the following related paper may also prove use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Will Your Next Reserve Increase Be Your Last”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by Prof. Ben Zehnwirth, Dr Julie Sims and Mark Shapland, published i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CONTINGENCIES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 the publication by the American Academy of Actuaries in the Jan/Feb 2004 issue on Page 40-44 (PD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Big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ular reserve upgrades means that the company is (and has been) under-reserved and a significant increase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“a big hit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n reserves means no subsequent reserve increases will be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Reality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understanding of the reserving process contradicts a very simple arithmetic truism. Repea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 upgrades does not mean under-reserving. Indeed, the converse may be true. I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s are not increased annually then the company is likely to be under-reserve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60280"/>
            <a:ext cx="883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serveincreases%20-%20part%202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2517480"/>
          </a:xfrm>
          <a:prstGeom prst="rect">
            <a:avLst/>
          </a:prstGeom>
          <a:ln w="0">
            <a:noFill/>
          </a:ln>
        </p:spPr>
      </p:pic>
      <p:pic>
        <p:nvPicPr>
          <p:cNvPr id="49" name="Reserveincreases%20-%20part%203" descr=""/>
          <p:cNvPicPr/>
          <p:nvPr/>
        </p:nvPicPr>
        <p:blipFill>
          <a:blip r:embed="rId2"/>
          <a:stretch/>
        </p:blipFill>
        <p:spPr>
          <a:xfrm>
            <a:off x="0" y="2971800"/>
            <a:ext cx="91440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serveincreases%20-%20part%204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oes this mean in terms of loss reserving each year? The following are simple arithmetic fact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total reserv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premium (price)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The ultimates for prior accident years will remain consistent with each increase in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reserves.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ltimates increas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 from one accident year to th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principal reason for these facts is that calendar year inflation projects both onto the accident years and development years- it also impacts all prior accident years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increases in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each year should not be regarded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If my costs in running my business increase by 5% each year I should at least increase the price of my product by 5% to stay even. I do not regard this increase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On the contrary, if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are not increased by at least 5% each year the company will be under reserved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at the 5% increase applies to the premium and ultimates from year to year is obvious. That it applies to the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(and still maintaining consistent prior accident year ultimates) may not be so obvious, to some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 have 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ed long tail liabilities from all over the planet. I have measured total inflation (economic and social) in excess of 15% per year on average for 20 years for some portfolios. So we now know why many companies have failed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3:11:05Z</dcterms:created>
  <dc:creator>Nikolai Volodin</dc:creator>
  <dc:description/>
  <dc:language>en-US</dc:language>
  <cp:lastModifiedBy>BenZ</cp:lastModifiedBy>
  <dcterms:modified xsi:type="dcterms:W3CDTF">2005-09-21T20:05:45Z</dcterms:modified>
  <cp:revision>3</cp:revision>
  <dc:subject/>
  <dc:title>Loss Reseverve Upgrages - A Pervasive Myth </dc:title>
</cp:coreProperties>
</file>